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C6D1-EBAC-4395-9E81-0D498913F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C0DA-AB2B-4E8E-8CEE-6954B8598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975D-78FC-4662-8113-56B2F8DDA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1B2-E576-4EA9-9885-8AE03849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6F7-D784-4A2E-98A9-58918720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FD3-5B7E-42D6-A8FB-03D02734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8F0-18D9-432B-847E-92F8A18F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2E9-A267-4630-A472-4E01AF55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C913-C660-48D8-9BF3-80794800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53B-CAA0-435A-AB26-A15EA035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2DB-D5F4-42E3-A331-3F7491F7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9E48-4BFB-4E9E-BF4A-9279C839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C34-4FFD-4F7D-88C4-9BDF2799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F0D-18E5-47C2-B682-A8E01D67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5C5-85EC-4B30-9A58-59966520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29BB-9E86-40B1-B8D5-BBE695EA0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3.png"/><Relationship Id="rId10" Type="http://schemas.openxmlformats.org/officeDocument/2006/relationships/image" Target="../media/image9.png"/><Relationship Id="rId11" Type="http://schemas.openxmlformats.org/officeDocument/2006/relationships/image" Target="../media/image16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briela Cuau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abriela Cuau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Gabriela Cuaut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Gabriela Cuaut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Gabriela Cuaut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67652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05320"/>
            <a:ext cx="17528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, mi nombre es Gabriela! Vivo en la Ciudad de Nueva York. Tengo 14 años. Tengo un hermano menor. Soy bonita y no soy al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in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3733920"/>
            <a:ext cx="30733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Carm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¡Mucho gusto! ¿Quieres ir a patinar ho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Noviembre 23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124080"/>
            <a:ext cx="36576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Gabr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Si, me gustaría muc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:   30 minutes ago   Noviembre 26, de 2012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Ja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¡Buenos días! ¿Quieres ir a mi casa ho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sta : Commentario:      1 hour ago.     Diciembre 3, de 201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4267080"/>
            <a:ext cx="37339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Gabri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i, será muy divertid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12  minutes ago  Noviembre 21, de 201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666880" y="4876920"/>
            <a:ext cx="441972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, tengo que decirte alg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Noviembre 20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548640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Gabri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, envíame un mensaje y me lo dic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Noviembre 19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y es un buen dia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28600" y="5029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Screen Shot 2012-12-06 at 9.38.17 AM.png"/>
          <p:cNvPicPr/>
          <p:nvPr/>
        </p:nvPicPr>
        <p:blipFill>
          <a:blip r:embed="rId1"/>
          <a:stretch/>
        </p:blipFill>
        <p:spPr>
          <a:xfrm>
            <a:off x="2114640" y="3730680"/>
            <a:ext cx="531720" cy="1012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Screen Shot 2012-12-06 at 9.39.18 AM.png"/>
          <p:cNvPicPr/>
          <p:nvPr/>
        </p:nvPicPr>
        <p:blipFill>
          <a:blip r:embed="rId2"/>
          <a:stretch/>
        </p:blipFill>
        <p:spPr>
          <a:xfrm>
            <a:off x="2114640" y="2511360"/>
            <a:ext cx="542880" cy="1090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1" descr="Screen Shot 2012-12-06 at 9.39.18 AM.png"/>
          <p:cNvPicPr/>
          <p:nvPr/>
        </p:nvPicPr>
        <p:blipFill>
          <a:blip r:embed="rId3"/>
          <a:stretch/>
        </p:blipFill>
        <p:spPr>
          <a:xfrm>
            <a:off x="212760" y="4572000"/>
            <a:ext cx="536400" cy="108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8" descr="Screen Shot 2012-12-06 at 9.40.26 AM.png"/>
          <p:cNvPicPr/>
          <p:nvPr/>
        </p:nvPicPr>
        <p:blipFill>
          <a:blip r:embed="rId4"/>
          <a:stretch/>
        </p:blipFill>
        <p:spPr>
          <a:xfrm>
            <a:off x="822240" y="4572000"/>
            <a:ext cx="500040" cy="96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0" descr="Screen Shot 2012-12-06 at 9.39.25 AM.png"/>
          <p:cNvPicPr/>
          <p:nvPr/>
        </p:nvPicPr>
        <p:blipFill>
          <a:blip r:embed="rId5"/>
          <a:stretch/>
        </p:blipFill>
        <p:spPr>
          <a:xfrm>
            <a:off x="1352520" y="4645080"/>
            <a:ext cx="457200" cy="1042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Photo on 12-6-12 at 9.33 AM.jpg"/>
          <p:cNvPicPr/>
          <p:nvPr/>
        </p:nvPicPr>
        <p:blipFill>
          <a:blip r:embed="rId6"/>
          <a:stretch/>
        </p:blipFill>
        <p:spPr>
          <a:xfrm>
            <a:off x="2114640" y="4876920"/>
            <a:ext cx="525240" cy="933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1" descr="Photo on 12-6-12 at 9.33 AM.jpg"/>
          <p:cNvPicPr/>
          <p:nvPr/>
        </p:nvPicPr>
        <p:blipFill>
          <a:blip r:embed="rId7"/>
          <a:stretch/>
        </p:blipFill>
        <p:spPr>
          <a:xfrm>
            <a:off x="212760" y="5559480"/>
            <a:ext cx="519120" cy="938160"/>
          </a:xfrm>
          <a:prstGeom prst="rect">
            <a:avLst/>
          </a:prstGeom>
          <a:ln w="0">
            <a:noFill/>
          </a:ln>
        </p:spPr>
      </p:pic>
      <p:sp>
        <p:nvSpPr>
          <p:cNvPr id="99" name="TextBox 9"/>
          <p:cNvSpPr/>
          <p:nvPr/>
        </p:nvSpPr>
        <p:spPr>
          <a:xfrm>
            <a:off x="152280" y="609588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Screen Shot 2012-12-07 at 9.39.59 AM.png"/>
          <p:cNvPicPr/>
          <p:nvPr/>
        </p:nvPicPr>
        <p:blipFill>
          <a:blip r:embed="rId8"/>
          <a:stretch/>
        </p:blipFill>
        <p:spPr>
          <a:xfrm>
            <a:off x="212760" y="530280"/>
            <a:ext cx="1493640" cy="352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9" descr="Screen Shot 2012-12-07 at 9.39.59 AM.png"/>
          <p:cNvPicPr/>
          <p:nvPr/>
        </p:nvPicPr>
        <p:blipFill>
          <a:blip r:embed="rId9"/>
          <a:stretch/>
        </p:blipFill>
        <p:spPr>
          <a:xfrm>
            <a:off x="2193840" y="3121200"/>
            <a:ext cx="50004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0" descr="Screen Shot 2012-12-07 at 9.39.59 AM.png"/>
          <p:cNvPicPr/>
          <p:nvPr/>
        </p:nvPicPr>
        <p:blipFill>
          <a:blip r:embed="rId10"/>
          <a:stretch/>
        </p:blipFill>
        <p:spPr>
          <a:xfrm>
            <a:off x="2114640" y="4267080"/>
            <a:ext cx="506160" cy="1146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2" descr="Screen Shot 2012-12-07 at 9.39.59 AM.png"/>
          <p:cNvPicPr/>
          <p:nvPr/>
        </p:nvPicPr>
        <p:blipFill>
          <a:blip r:embed="rId11"/>
          <a:stretch/>
        </p:blipFill>
        <p:spPr>
          <a:xfrm>
            <a:off x="2114640" y="5407200"/>
            <a:ext cx="506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briela Cuau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abriela Cuau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Gabriela Cuaut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Gabriela Cuaut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Gabriela Cuaut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7"/>
          <p:cNvSpPr/>
          <p:nvPr/>
        </p:nvSpPr>
        <p:spPr>
          <a:xfrm>
            <a:off x="152280" y="3505320"/>
            <a:ext cx="17528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, mi nombre es Gabriela! Vivo en la Ciudad de Nueva York. Tengo 14 años. Tengo un hermano menor. Soy bonita y no soy al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in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2743200" y="320040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Gabr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¡Gracias! ¡Eres muy amable, Ayat!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Ay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Gabriela! Me gustan tus zapatos que te pusiste en la escuela hoy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Diciembre 3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y es un buen dia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228600" y="5029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Screen Shot 2012-12-06 at 9.39.25 AM.png"/>
          <p:cNvPicPr/>
          <p:nvPr/>
        </p:nvPicPr>
        <p:blipFill>
          <a:blip r:embed="rId1"/>
          <a:stretch/>
        </p:blipFill>
        <p:spPr>
          <a:xfrm>
            <a:off x="2193840" y="2438280"/>
            <a:ext cx="457200" cy="1036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1" descr="Screen Shot 2012-12-06 at 9.39.18 AM.png"/>
          <p:cNvPicPr/>
          <p:nvPr/>
        </p:nvPicPr>
        <p:blipFill>
          <a:blip r:embed="rId2"/>
          <a:stretch/>
        </p:blipFill>
        <p:spPr>
          <a:xfrm>
            <a:off x="212760" y="4572000"/>
            <a:ext cx="536400" cy="1085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8" descr="Screen Shot 2012-12-06 at 9.40.26 AM.png"/>
          <p:cNvPicPr/>
          <p:nvPr/>
        </p:nvPicPr>
        <p:blipFill>
          <a:blip r:embed="rId3"/>
          <a:stretch/>
        </p:blipFill>
        <p:spPr>
          <a:xfrm>
            <a:off x="822240" y="4572000"/>
            <a:ext cx="500040" cy="963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0" descr="Screen Shot 2012-12-06 at 9.39.25 AM.png"/>
          <p:cNvPicPr/>
          <p:nvPr/>
        </p:nvPicPr>
        <p:blipFill>
          <a:blip r:embed="rId4"/>
          <a:stretch/>
        </p:blipFill>
        <p:spPr>
          <a:xfrm>
            <a:off x="1352520" y="4645080"/>
            <a:ext cx="457200" cy="1042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1" descr="Photo on 12-6-12 at 9.33 AM.jpg"/>
          <p:cNvPicPr/>
          <p:nvPr/>
        </p:nvPicPr>
        <p:blipFill>
          <a:blip r:embed="rId5"/>
          <a:stretch/>
        </p:blipFill>
        <p:spPr>
          <a:xfrm>
            <a:off x="212760" y="5559480"/>
            <a:ext cx="519120" cy="9381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9"/>
          <p:cNvSpPr/>
          <p:nvPr/>
        </p:nvSpPr>
        <p:spPr>
          <a:xfrm>
            <a:off x="152280" y="609588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3" descr="Screen Shot 2012-12-06 at 9.51.17 AM.png"/>
          <p:cNvPicPr/>
          <p:nvPr/>
        </p:nvPicPr>
        <p:blipFill>
          <a:blip r:embed="rId6"/>
          <a:stretch/>
        </p:blipFill>
        <p:spPr>
          <a:xfrm>
            <a:off x="822240" y="5559480"/>
            <a:ext cx="500040" cy="10904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1"/>
          <p:cNvSpPr/>
          <p:nvPr/>
        </p:nvSpPr>
        <p:spPr>
          <a:xfrm>
            <a:off x="838080" y="61722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8" descr="Screen Shot 2012-12-07 at 9.39.59 AM.png"/>
          <p:cNvPicPr/>
          <p:nvPr/>
        </p:nvPicPr>
        <p:blipFill>
          <a:blip r:embed="rId7"/>
          <a:stretch/>
        </p:blipFill>
        <p:spPr>
          <a:xfrm>
            <a:off x="2193840" y="3048120"/>
            <a:ext cx="500040" cy="1145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9" descr="Screen Shot 2012-12-07 at 9.39.59 AM.png"/>
          <p:cNvPicPr/>
          <p:nvPr/>
        </p:nvPicPr>
        <p:blipFill>
          <a:blip r:embed="rId8"/>
          <a:stretch/>
        </p:blipFill>
        <p:spPr>
          <a:xfrm>
            <a:off x="133200" y="457200"/>
            <a:ext cx="1482840" cy="3492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1" descr="Screen Shot 2012-12-06 at 9.51.17 AM.png"/>
          <p:cNvPicPr/>
          <p:nvPr/>
        </p:nvPicPr>
        <p:blipFill>
          <a:blip r:embed="rId9"/>
          <a:stretch/>
        </p:blipFill>
        <p:spPr>
          <a:xfrm>
            <a:off x="2193840" y="3730680"/>
            <a:ext cx="500040" cy="1090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2743200" y="3733920"/>
            <a:ext cx="37339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Tra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e encanta Taylor Swift. Ella es muy bonita. ¡Estoy muy celosa de ella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4" descr="Screen Shot 2012-12-07 at 9.39.59 AM.png"/>
          <p:cNvPicPr/>
          <p:nvPr/>
        </p:nvPicPr>
        <p:blipFill>
          <a:blip r:embed="rId10"/>
          <a:stretch/>
        </p:blipFill>
        <p:spPr>
          <a:xfrm>
            <a:off x="2193840" y="4340160"/>
            <a:ext cx="500040" cy="1152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7"/>
          <p:cNvSpPr/>
          <p:nvPr/>
        </p:nvSpPr>
        <p:spPr>
          <a:xfrm>
            <a:off x="2743200" y="4343400"/>
            <a:ext cx="37339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Gabri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ero Tracy, tu también eres muy boni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6" descr="Screen Shot 2012-12-06 at 9.39.18 AM.png"/>
          <p:cNvPicPr/>
          <p:nvPr/>
        </p:nvPicPr>
        <p:blipFill>
          <a:blip r:embed="rId11"/>
          <a:stretch/>
        </p:blipFill>
        <p:spPr>
          <a:xfrm>
            <a:off x="2193840" y="4950000"/>
            <a:ext cx="536760" cy="1090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7"/>
          <p:cNvSpPr/>
          <p:nvPr/>
        </p:nvSpPr>
        <p:spPr>
          <a:xfrm>
            <a:off x="2743200" y="4952880"/>
            <a:ext cx="37339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Ja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¡Yo no quiero ir a la escuela mañana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0" descr="Screen Shot 2012-12-07 at 9.39.59 AM.png"/>
          <p:cNvPicPr/>
          <p:nvPr/>
        </p:nvPicPr>
        <p:blipFill>
          <a:blip r:embed="rId12"/>
          <a:stretch/>
        </p:blipFill>
        <p:spPr>
          <a:xfrm>
            <a:off x="2193840" y="5559480"/>
            <a:ext cx="500040" cy="11523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7"/>
          <p:cNvSpPr/>
          <p:nvPr/>
        </p:nvSpPr>
        <p:spPr>
          <a:xfrm>
            <a:off x="2743200" y="5562720"/>
            <a:ext cx="37339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Gabri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¡Pero la maestra Andrea va a  traer  su gato manan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a!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4:58:43Z</dcterms:modified>
  <cp:revision>115</cp:revision>
  <dc:subject/>
  <dc:title>Profile</dc:title>
</cp:coreProperties>
</file>